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AECC-1B08-410F-9820-87FC04573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871B-7DA0-4D92-8F63-526F931A4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B7F4-B58A-422C-8E42-4BCB3C00C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34E8-ECF8-4B4B-9B25-8A2FB46C9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5297-0A78-47A2-A63E-912A78ECB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11EB-90FE-4687-8549-040C4619F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5DC9-7749-4752-9F9F-2367E350A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B26D-0F8D-40B8-9BA0-17BC59CE0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5FC8-1B17-4AD8-9DAD-DB36721E8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C560-DDFA-4B59-8FE2-80CAEEE6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6AB3-E9FA-4D78-ABD6-5898FC13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498C-C3ED-47EA-BEFC-E02E13167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3B3AC-D5B3-408C-83EB-966C7737FA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ative Title , Mabo and Wi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draft_lens2994292module27085672photo_1239688500Eddie-Mabo"/>
          <p:cNvPicPr/>
          <p:nvPr/>
        </p:nvPicPr>
        <p:blipFill>
          <a:blip r:embed="rId1"/>
          <a:stretch/>
        </p:blipFill>
        <p:spPr>
          <a:xfrm>
            <a:off x="1332000" y="1303200"/>
            <a:ext cx="662472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and Rights and Nativ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1976 the Fraser Government passed laws to give Aboriginals land righ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did not mean that Aboriginals got their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Law did not include States only Terr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terra_nullius_u_350x150"/>
          <p:cNvPicPr/>
          <p:nvPr/>
        </p:nvPicPr>
        <p:blipFill>
          <a:blip r:embed="rId1"/>
          <a:stretch/>
        </p:blipFill>
        <p:spPr>
          <a:xfrm>
            <a:off x="539640" y="3357720"/>
            <a:ext cx="806472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erra Nullius – No one</a:t>
            </a:r>
            <a:r>
              <a:rPr b="1" lang="ja-JP" sz="4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 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tain Cook declared Eastern Australia to be the property of the British Monar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1770 at Endeavour River, Queensl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land was assumed to belong to no one TERRA  NULLI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Aboriginal people were completely igno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rra Nullius was the reason Justice Blackburn denied the Yolngu claim in 197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ddie Mab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44956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ddie Mabo was a Mur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Torres Strait) Islander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1982 Mabo took his land case to cou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 claimed that his people had been owners of their lands for at least 6000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ase took 11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1993 the High Court decided that Mabo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 people did own their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ddie had died in 199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Self-portrait of Eddie Mabo, image provided by National Library of Australia"/>
          <p:cNvPicPr/>
          <p:nvPr/>
        </p:nvPicPr>
        <p:blipFill>
          <a:blip r:embed="rId1"/>
          <a:stretch/>
        </p:blipFill>
        <p:spPr>
          <a:xfrm>
            <a:off x="4638600" y="1125360"/>
            <a:ext cx="45054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 more Terra Nulli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ddie Mabo died before the decision but his people now owned their l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rra Nullius had been abol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tive title is now available all over Austra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Register_NTC_A4"/>
          <p:cNvPicPr/>
          <p:nvPr/>
        </p:nvPicPr>
        <p:blipFill>
          <a:blip r:embed="rId1"/>
          <a:stretch/>
        </p:blipFill>
        <p:spPr>
          <a:xfrm>
            <a:off x="4175280" y="1413000"/>
            <a:ext cx="4968720" cy="49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ing and Pastoral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Yolngu people began their land struggle against a mining company (Nabalco 196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Gurindgi people began their struggle against a pastoral (meat) company (Vesteys in 196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" descr="Gurindji Mining Lease &amp; Cattle Station, 1970"/>
          <p:cNvPicPr/>
          <p:nvPr/>
        </p:nvPicPr>
        <p:blipFill>
          <a:blip r:embed="rId1"/>
          <a:stretch/>
        </p:blipFill>
        <p:spPr>
          <a:xfrm>
            <a:off x="4356000" y="3716280"/>
            <a:ext cx="4969080" cy="3141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840_yolgnu_prog"/>
          <p:cNvPicPr/>
          <p:nvPr/>
        </p:nvPicPr>
        <p:blipFill>
          <a:blip r:embed="rId2"/>
          <a:stretch/>
        </p:blipFill>
        <p:spPr>
          <a:xfrm>
            <a:off x="4565520" y="3425760"/>
            <a:ext cx="11160" cy="6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" descr="840_yolgnu_prog"/>
          <p:cNvPicPr/>
          <p:nvPr/>
        </p:nvPicPr>
        <p:blipFill>
          <a:blip r:embed="rId3"/>
          <a:stretch/>
        </p:blipFill>
        <p:spPr>
          <a:xfrm>
            <a:off x="4565520" y="3425760"/>
            <a:ext cx="11160" cy="6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" descr="The Yolngu are indigenouse Australians who live in the northeast of Arnhem land."/>
          <p:cNvPicPr/>
          <p:nvPr/>
        </p:nvPicPr>
        <p:blipFill>
          <a:blip r:embed="rId4"/>
          <a:stretch/>
        </p:blipFill>
        <p:spPr>
          <a:xfrm>
            <a:off x="4248000" y="1052640"/>
            <a:ext cx="5077080" cy="29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ney,Money,Mon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Australian economy depends on mining and cattle ra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all done on Aboriginal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problem of Aboriginal ownership , mining and cattle raising remai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question was; Can mining and pastoral activity co exist on Aboriginal l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WIK decision 199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1996 the High Court decided that pastoral leases did not extinguish native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decision established the principle of co existe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original people could own their land and negotiate with commercial companies to use that 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1T07:43:01Z</dcterms:created>
  <dc:creator>RUSANJO</dc:creator>
  <dc:description/>
  <dc:language>en-US</dc:language>
  <cp:lastModifiedBy>Bianka</cp:lastModifiedBy>
  <dcterms:modified xsi:type="dcterms:W3CDTF">2012-02-16T02:26:02Z</dcterms:modified>
  <cp:revision>10</cp:revision>
  <dc:subject/>
  <dc:title>Native Title , Mabo and Wik</dc:title>
</cp:coreProperties>
</file>